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73E-EA83-407F-9AAE-747CF09D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2EE-CFC8-4C5B-A267-87F9D485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EE8-FFD4-47F6-954D-4C655684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7BB-0A8B-4C3F-B828-7D6EDDBE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577-7792-461B-95BD-2D092237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8DB-E5D2-4376-BA1B-A4F18BFC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7E1-D3ED-4A7B-AAB6-0003F536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B54-CDBE-41E1-A855-9E24001D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AAD-4BCF-47CA-9D8F-CC50FF06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0F3-18D5-4DBD-9BAB-BB4BD1DA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77F-05BE-4D88-A9D8-AEC2CD1A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9F8-5A90-4630-9686-A79804D4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0726-003D-4103-B77F-6486BB815C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2800" y="2514600"/>
            <a:ext cx="806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Assessing Confounding I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Case-Control Stud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58920"/>
            <a:ext cx="624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295280" y="1447920"/>
            <a:ext cx="64771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295280"/>
            <a:ext cx="62481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4696"/>
          <a:stretch/>
        </p:blipFill>
        <p:spPr>
          <a:xfrm>
            <a:off x="1371600" y="1828800"/>
            <a:ext cx="6477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447920"/>
            <a:ext cx="6400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143000" y="1676520"/>
            <a:ext cx="6705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95280" y="1447920"/>
            <a:ext cx="64771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19320" y="1371600"/>
            <a:ext cx="670536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5105520"/>
            <a:ext cx="1143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4280"/>
            <a:ext cx="647712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371600"/>
            <a:ext cx="60199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56:15Z</dcterms:modified>
  <cp:revision>218</cp:revision>
  <dc:subject/>
  <dc:title>Slide 1</dc:title>
</cp:coreProperties>
</file>